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2FC-4BC0-4B63-825B-8554EF69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2D8-28D7-4881-A801-7652F62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FCE-C092-4179-981F-2D15A900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409-5524-48A2-9AED-13F6D52E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EC3-9917-47F1-A197-BEC98505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53F-D89E-4DBD-91CA-D1571D49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9B5-C3B8-411E-8FDE-C37AD6AE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7A6-EE2B-4C92-9222-DA1420BF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D43-2B1F-4B6F-B345-8E9A0FF4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068-8C77-4ED1-803E-C383CC5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84D-AC32-4353-913A-76E2333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F31-D55A-47AA-A410-6DE7D5D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E1C-8580-4253-B069-B3E3069ED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olcos.org/cms/upload/image/Logos/wiki_educator_logo.jpg&amp;imgrefurl=http://www.olcos.org/english/cooperations/index.htm&amp;usg=__htfvw5GtvuwWfZxJUvqgpAo2m0Q=&amp;h=166&amp;w=160&amp;sz=9&amp;hl=en&amp;start=1&amp;um=1&amp;itbs=1&amp;tbnid=4FzuQUbhdZI8bM:&amp;tbnh=99&amp;tbnw=95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farm3.static.flickr.com/2520/4130856360_b9e45488e4.jpg&amp;imgrefurl=http://www.wiziq.com/online-class/212368-WikiEducator-Creating-Open-Educational-Resources-for-use-by-anyone&amp;usg=__aicoORBHCr3Z-_-hPn5qG3KwEHw=&amp;h=420&amp;w=500&amp;sz=140&amp;hl=en&amp;start=11&amp;um=1&amp;itbs=1&amp;tbnid=QShpdkXXvoXSDM:&amp;tbnh=109&amp;tbnw=130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*jgZBWkdToKAilfbII3NT5LH3AixPbeHTrwZ*P5t50nGJzPtPHvtuI8pvX8lthamtQ3bp1ufqKYAkTYEs48xi7l58Hwqll5*/90269854.jpeg&amp;imgrefurl=http://education.ning.com/profiles/blog/list%3Fmonth%3D11%26year%3D2008&amp;usg=__rDy5o5HXOn-LHmONqr3Q2NxvRCo=&amp;h=297&amp;w=297&amp;sz=13&amp;hl=en&amp;start=8&amp;um=1&amp;itbs=1&amp;tbnid=nZ-pHa1tnR0F8M:&amp;tbnh=116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api.ning.com/files/etPBNj4M0-bD*8JFmssPCNnWSJDFOnkaoZgcO77eYa5JQmDVwGDYI7jOIUgEnM6asFfJ2MX93-TiDqzQTPnNdFB*8eSso7Iu/L4CEL4C25.gif&amp;imgrefurl=http://onlinelanguageservices.ning.com/&amp;usg=__9bMak-2DWk183nCJUcxKky7-ycY=&amp;h=192&amp;w=300&amp;sz=109&amp;hl=en&amp;start=13&amp;um=1&amp;itbs=1&amp;tbnid=hKoZuODej_XzOM:&amp;tbnh=74&amp;tbnw=116&amp;prev=/images%3Fq%3DwikiEducator%26um%3D1%26hl%3Den%26sa%3DN%26rls%3Dcom.microsoft:en-us:IE-SearchBox%26rlz%3D1I7GGLD_e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education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00080"/>
            <a:ext cx="2349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your teach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difference to learning worl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ing your time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part of a collaborativ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free knowledge base that will benefit 4 billion of the worlds 6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o! The community will supp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you anything to lo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lose anything by giving away our teaching 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has everything to 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35280" y="3422520"/>
            <a:ext cx="4895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one of the most visited websites in the world that was founded in N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075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by Dr Wayne Mackintosh of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based at Otago Polytechnic but moved because of demand to 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free educational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ors want to collabora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n teachers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is the key to this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to bring together educators to share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rning community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4480" y="4427640"/>
            <a:ext cx="2881440" cy="241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learning materials and resources (such as textbooks, lesson plans and lecture notes) to be open and available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can also be modified, adapted and res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re-invent the wh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to do for education what Wikipedia has done for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s used by 100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nine million hits a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ithin the top 1% of visited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80536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are aware of its exis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NZ teachers contrib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213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ependent charitable initiative under the auspices of the Open Education Resource OE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edia Wiki an open source wiki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lly being update and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for text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copyright holder retains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 is given for certain u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use, adapt,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ell material if so desired: provided original copyright holder is acknowled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extbooks: the future of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95008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Educato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training is offered to all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online training session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30-40 countries represented in eac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are encouraged to donate some of their knowledge for new resources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877000"/>
            <a:ext cx="11048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8:55:43Z</dcterms:created>
  <dc:creator>Malcolm Roberts</dc:creator>
  <dc:description/>
  <dc:language>en-US</dc:language>
  <cp:lastModifiedBy>Malcolm Roberts</cp:lastModifiedBy>
  <dcterms:modified xsi:type="dcterms:W3CDTF">2010-04-18T09:25:54Z</dcterms:modified>
  <cp:revision>3</cp:revision>
  <dc:subject/>
  <dc:title>WikiEducator</dc:title>
</cp:coreProperties>
</file>