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830-D786-42E2-BD6A-A4778D86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A37-F236-4137-BAB2-F95F6A0F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056-1A6C-4D6A-A2DC-F98D9FED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2FC-B17B-427C-93D0-6A576C45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A67-F95A-42E2-8B72-2F1CBD58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1E4-4DAD-43F0-959A-ED96309C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4DA-8002-48EC-87B7-998AAF47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0C7-999D-432B-8C5B-854E9BFB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1F2-CCA4-4D74-86C1-503BD408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58B-AFC6-4999-95D5-E321A2C8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821-7F79-475D-BFD1-AE8DFDCF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8C9-107C-49F8-AB86-E8B2B1F1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8566-D05F-4B41-888D-A714EAD6B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olcos.org/cms/upload/image/Logos/wiki_educator_logo.jpg&amp;imgrefurl=http://www.olcos.org/english/cooperations/index.htm&amp;usg=__htfvw5GtvuwWfZxJUvqgpAo2m0Q=&amp;h=166&amp;w=160&amp;sz=9&amp;hl=en&amp;start=1&amp;um=1&amp;itbs=1&amp;tbnid=4FzuQUbhdZI8bM:&amp;tbnh=99&amp;tbnw=95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farm3.static.flickr.com/2520/4130856360_b9e45488e4.jpg&amp;imgrefurl=http://www.wiziq.com/online-class/212368-WikiEducator-Creating-Open-Educational-Resources-for-use-by-anyone&amp;usg=__aicoORBHCr3Z-_-hPn5qG3KwEHw=&amp;h=420&amp;w=500&amp;sz=140&amp;hl=en&amp;start=11&amp;um=1&amp;itbs=1&amp;tbnid=QShpdkXXvoXSDM:&amp;tbnh=109&amp;tbnw=130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*jgZBWkdToKAilfbII3NT5LH3AixPbeHTrwZ*P5t50nGJzPtPHvtuI8pvX8lthamtQ3bp1ufqKYAkTYEs48xi7l58Hwqll5*/90269854.jpeg&amp;imgrefurl=http://education.ning.com/profiles/blog/list%3Fmonth%3D11%26year%3D2008&amp;usg=__rDy5o5HXOn-LHmONqr3Q2NxvRCo=&amp;h=297&amp;w=297&amp;sz=13&amp;hl=en&amp;start=8&amp;um=1&amp;itbs=1&amp;tbnid=nZ-pHa1tnR0F8M:&amp;tbnh=116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education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00080"/>
            <a:ext cx="2349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your teach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a difference to learning worl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fting your time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part of a collaborativ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 free knowledge base that will benefit 4 billion of the worlds 6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go! The community will supp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you anything to lo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lose anything by giving away our teaching materi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has everything to 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5877000"/>
            <a:ext cx="1104840" cy="704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835280" y="3422520"/>
            <a:ext cx="48956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one of the most visited websites in the world that was founded in N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0755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by Dr Wayne Mackintosh of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based at Otago Polytechnic but moved because of demand to US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free educational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ors want to collaborat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n teachers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is the key to this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: to bring together educators to share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rning community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4480" y="4427640"/>
            <a:ext cx="2881440" cy="2415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learning materials and resources (such as textbooks, lesson plans and lecture notes) to be open and available fo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can also be modified, adapted and res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re-invent the wh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s to do for education what Wikipedia has done for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is used by 100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s nine million hits a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ithin the top 1% of visited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80536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NZ teachers are aware of its exis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NZ teachers contrib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21300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ependent charitable initiative under the auspices of the Open Education Resource OER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Media Wiki an open source wiki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ally being update and r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for text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copyright holder retains 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 is given for certain u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use, adapt, mod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sell material if so desired: provided original copyright holder is acknowled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extbooks: the future of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training is offered to all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one online training session 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30-40 countries represented in each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are encouraged to donate some of their knowledge for new resource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8:55:43Z</dcterms:created>
  <dc:creator>Malcolm Roberts</dc:creator>
  <dc:description/>
  <dc:language>en-US</dc:language>
  <cp:lastModifiedBy>Malcolm Roberts</cp:lastModifiedBy>
  <dcterms:modified xsi:type="dcterms:W3CDTF">2010-04-18T09:25:54Z</dcterms:modified>
  <cp:revision>3</cp:revision>
  <dc:subject/>
  <dc:title>WikiEducator</dc:title>
</cp:coreProperties>
</file>