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357-215E-48AF-A1FB-917D36F0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61B-751C-4085-B789-7386E68E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01A-1EC9-4DF2-B34C-6DEA474B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11A-D9EC-45E2-80FD-7ADFD90C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237-CF0A-4E6B-8823-754E2CB5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361-2574-4C6C-B21C-081DACD0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9B6-22C5-4BB1-A245-6E43C5AA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CF8-4969-4C4B-B6F1-4B50A44D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2A9-C1C7-4769-BBDE-7238A09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88A-1513-4C85-9E26-BA37851C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872-9869-4E55-A5C0-00CDBBF8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780-C8F1-436D-B2FD-DB52E93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2D10-CE04-4052-8180-685BEC6C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olcos.org/cms/upload/image/Logos/wiki_educator_logo.jpg&amp;imgrefurl=http://www.olcos.org/english/cooperations/index.htm&amp;usg=__htfvw5GtvuwWfZxJUvqgpAo2m0Q=&amp;h=166&amp;w=160&amp;sz=9&amp;hl=en&amp;start=1&amp;um=1&amp;itbs=1&amp;tbnid=4FzuQUbhdZI8bM:&amp;tbnh=99&amp;tbnw=95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farm3.static.flickr.com/2520/4130856360_b9e45488e4.jpg&amp;imgrefurl=http://www.wiziq.com/online-class/212368-WikiEducator-Creating-Open-Educational-Resources-for-use-by-anyone&amp;usg=__aicoORBHCr3Z-_-hPn5qG3KwEHw=&amp;h=420&amp;w=500&amp;sz=140&amp;hl=en&amp;start=11&amp;um=1&amp;itbs=1&amp;tbnid=QShpdkXXvoXSDM:&amp;tbnh=109&amp;tbnw=130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*jgZBWkdToKAilfbII3NT5LH3AixPbeHTrwZ*P5t50nGJzPtPHvtuI8pvX8lthamtQ3bp1ufqKYAkTYEs48xi7l58Hwqll5*/90269854.jpeg&amp;imgrefurl=http://education.ning.com/profiles/blog/list%3Fmonth%3D11%26year%3D2008&amp;usg=__rDy5o5HXOn-LHmONqr3Q2NxvRCo=&amp;h=297&amp;w=297&amp;sz=13&amp;hl=en&amp;start=8&amp;um=1&amp;itbs=1&amp;tbnid=nZ-pHa1tnR0F8M:&amp;tbnh=116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education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00080"/>
            <a:ext cx="2349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your teach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difference to learning worl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ing your time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part of a collaborativ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free knowledge base that will benefit 4 billion of the worlds 6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o! The community will supp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you anything to lo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lose anything by giving away our teaching materi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has everything to 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04840" cy="704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835280" y="3422520"/>
            <a:ext cx="48956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one of the most visited websites in the world that was founded in N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0755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by Dr Wayne Mackintosh of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based at Otago Polytechnic but moved because of demand to U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free educational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ors want to collaborat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n teachers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is the key to this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to bring together educators to share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rning community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4480" y="4427640"/>
            <a:ext cx="2881440" cy="2415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learning materials and resources (such as textbooks, lesson plans and lecture notes) to be open and available fo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can also be modified, adapted and res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re-invent the wh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s to do for education what Wikipedia has done for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s used by 100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 nine million hits a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ithin the top 1% of visited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80536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NZ teachers are aware of its exis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NZ teachers contrib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21300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ependent charitable initiative under the auspices of the Open Education Resource OER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edia Wiki an open source wiki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lly being update and r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for text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copyright holder retains 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 is given for certain u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use, adapt, mod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sell material if so desired: provided original copyright holder is acknowled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extbooks: the future of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training is offered to all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online training session 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30-40 countries represented in each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are encouraged to donate some of their knowledge for new resource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8:55:43Z</dcterms:created>
  <dc:creator>Malcolm Roberts</dc:creator>
  <dc:description/>
  <dc:language>en-US</dc:language>
  <cp:lastModifiedBy>Malcolm Roberts</cp:lastModifiedBy>
  <dcterms:modified xsi:type="dcterms:W3CDTF">2010-04-18T09:25:54Z</dcterms:modified>
  <cp:revision>3</cp:revision>
  <dc:subject/>
  <dc:title>WikiEducator</dc:title>
</cp:coreProperties>
</file>