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9E54-1497-4777-B728-8B76BA34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3B2-FE54-41C9-8068-214E0A13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710B-BE5A-4CBA-9383-EF779354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4957-F386-4F04-8097-A1FDD606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ABBE-72DA-47B7-B951-396092A1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5E64-FA73-4FB8-AD07-906D6BDC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867C-C7D5-4B93-84C7-DD4EBEAF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B037-FA94-4543-83E6-C1828646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38E2-3EB7-4CBC-8319-DEE388A8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5312-9189-47F5-A886-3D783162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CECF-BBC8-4AAF-B202-A6BA999B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2B0A-5D27-4412-81B0-E729493C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1CFD-FE57-46B8-9468-ECA02E832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olcos.org/cms/upload/image/Logos/wiki_educator_logo.jpg&amp;imgrefurl=http://www.olcos.org/english/cooperations/index.htm&amp;usg=__htfvw5GtvuwWfZxJUvqgpAo2m0Q=&amp;h=166&amp;w=160&amp;sz=9&amp;hl=en&amp;start=1&amp;um=1&amp;itbs=1&amp;tbnid=4FzuQUbhdZI8bM:&amp;tbnh=99&amp;tbnw=95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farm3.static.flickr.com/2520/4130856360_b9e45488e4.jpg&amp;imgrefurl=http://www.wiziq.com/online-class/212368-WikiEducator-Creating-Open-Educational-Resources-for-use-by-anyone&amp;usg=__aicoORBHCr3Z-_-hPn5qG3KwEHw=&amp;h=420&amp;w=500&amp;sz=140&amp;hl=en&amp;start=11&amp;um=1&amp;itbs=1&amp;tbnid=QShpdkXXvoXSDM:&amp;tbnh=109&amp;tbnw=130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*jgZBWkdToKAilfbII3NT5LH3AixPbeHTrwZ*P5t50nGJzPtPHvtuI8pvX8lthamtQ3bp1ufqKYAkTYEs48xi7l58Hwqll5*/90269854.jpeg&amp;imgrefurl=http://education.ning.com/profiles/blog/list%3Fmonth%3D11%26year%3D2008&amp;usg=__rDy5o5HXOn-LHmONqr3Q2NxvRCo=&amp;h=297&amp;w=297&amp;sz=13&amp;hl=en&amp;start=8&amp;um=1&amp;itbs=1&amp;tbnid=nZ-pHa1tnR0F8M:&amp;tbnh=116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Edu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education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00080"/>
            <a:ext cx="2349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ating your teach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a difference to learning world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fting your time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part of a collaborativ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 free knowledge base that will benefit 4 billion of the worlds 6 b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go! The community will suppor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587700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you anything to loo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n’t lose anything by giving away our teaching materi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ld has everything to 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40720" y="5877000"/>
            <a:ext cx="1104840" cy="704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835280" y="3422520"/>
            <a:ext cx="489564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one of the most visited websites in the world that was founded in N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807552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Edu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d by Dr Wayne Mackintosh of 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 based at Otago Polytechnic but moved because of demand to US se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vide free educational con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40720" y="587700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ors want to collaborat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in teachers D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on is the key to this wi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: to bring together educators to share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earning community appro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4480" y="4427640"/>
            <a:ext cx="2881440" cy="2415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12000" y="595008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Edu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learning materials and resources (such as textbooks, lesson plans and lecture notes) to be open and available for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 can also be modified, adapted and res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re-invent the wh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2000" y="595008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Edu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s to do for education what Wikipedia has done for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is used by 100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s nine million hits a mon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ithin the top 1% of visited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580536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Edu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NZ teachers are aware of its exist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NZ teachers contrib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3213000"/>
            <a:ext cx="3313080" cy="3313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12000" y="587700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Edu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dependent charitable initiative under the auspices of the Open Education Resource OER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Media Wiki an open source wiki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ally being update and r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2000" y="595008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right for text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copyright holder retains copy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 is given for certain u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use, adapt, mod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sell material if so desired: provided original copyright holder is acknowled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extbooks: the future of edu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2000" y="595008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Educator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training is offered to all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least one online training session per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30-40 countries represented in each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are encouraged to donate some of their knowledge for new resources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2000" y="587700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08:55:43Z</dcterms:created>
  <dc:creator>Malcolm Roberts</dc:creator>
  <dc:description/>
  <dc:language>en-US</dc:language>
  <cp:lastModifiedBy>Malcolm Roberts</cp:lastModifiedBy>
  <dcterms:modified xsi:type="dcterms:W3CDTF">2010-04-18T09:25:54Z</dcterms:modified>
  <cp:revision>3</cp:revision>
  <dc:subject/>
  <dc:title>WikiEducator</dc:title>
</cp:coreProperties>
</file>